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F001-ECED-49D7-AC33-E19069D29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86DD-63FF-4961-A6EC-20580FCF2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4BF3F5-7605-4CDF-B715-AA48732C5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E0B179-976D-43FD-B8FE-A9CDFB0BF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F18DBA-BDDD-41EE-9E8F-CC6C8A91C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319876-2ECF-4082-BB85-EC6455AB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69F610-407C-4AC4-8FA5-CB086D0F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6A79CB-D657-474B-9151-AC34ED1D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E79004-201D-4E9F-AA5B-5C0171D35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88C48A-0CB1-4134-A54B-1CCF4CA71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074721-693E-4204-9D9D-1166A5463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63D42C-B0D5-4873-8511-60778867A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05C6-B637-443F-8436-8B6C7F685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D1D682-DDA4-412A-9800-17C67DF3E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718BA1-23D9-431C-A7D1-548A70300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9B9FD9-3E01-4DE6-BA24-01B9C8C22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7BB096-915B-4E48-AC61-D1FFD543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D8DBA1-8615-49C3-A8CA-AFC5D16C8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0D5241-AC26-43DE-AABA-DC8BDFA28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D1C1BD-B41A-48E0-BDBC-9EB09EBA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34B115-AE7A-4359-8AA2-B8031297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59741A-3C00-4C6F-A02F-BFAB30D04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860869-42F4-424C-8B7B-B1A7D18D4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7F94-8E17-41F4-8357-A1083E938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008592-A7D9-4478-A430-7E292D69A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090325-9E0A-4E06-A0C7-E6B327A68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EC167A-8069-4AAF-8F0D-88B9D385F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BF0607-2442-478D-8138-E8BD153EF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3F6503-8E8B-44F7-AB00-10D8F0EEE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A96AA5-F4B9-4045-A005-0421E42C4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3FCFA5-E08C-4B82-B80F-98A27B621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3E4797-46A7-4E68-B503-463C4975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58608A-CB7C-41F9-8C09-1DB6F21E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EEDB43-03E6-42B5-BC91-F9DD27BD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B6F5C-F1A7-4EA0-8C8B-07A2B1EA4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9CA0EF-54D8-4EDD-849B-2FE4A7811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C711A3-7BB5-4AC6-9F8E-01AA6CE43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3E33E7-BACE-4CA9-AB6E-74132C91D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DF199F-DE31-4607-9203-757BAD679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8CDB02-977E-44E3-A15F-905ED314B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F862B8-F810-43DA-8DAE-0CF88A46D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0F0F04-B2BF-464B-8796-DE985FA4E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49EBBC-8364-4963-AE50-0DCB2B477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6893BE-6D41-4E82-9B8A-C56EC142F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4DB2B6-00FE-417C-B78A-EE993785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2B29B-E036-4307-A971-61BEDA5D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205B4E-B662-4559-8CC6-1FB76C08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E0B900-6FD9-469A-991E-42E70F80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D5FAE5-1DF0-40E2-A98E-9814292D6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CC966E-57FB-4F18-A03A-29C27C660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C65113-176B-4EC3-BE88-2C8636299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6D847F-D86A-4CCA-B152-0B712B46A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1350F3-7BAF-4BA3-9007-43DE4C2D6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357558-3AE8-45D0-ABBB-6C7C57046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D0792D-3D9F-46CE-817B-BB704897D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69685E-06F7-47B3-A6D6-4831519B4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6917C-5D5E-4EB4-913C-6796F55F7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06F510-5C18-4043-8E67-980BBB97D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FAE014-3BF5-4622-AECB-4BEF05D3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82998A-81E0-48F9-8AAD-18176FD6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C59888-89F0-4EC8-9A92-92A443B3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E0346D-B1B6-44FB-BB60-B587D02B7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1CFCE4-D0F2-4676-80DA-C7F48792D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EC283D-9981-4069-A8F2-899688BD2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1176D2-FBBE-4B88-9868-F8BD5652A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5BB9A5-2A7E-47D6-A9E4-D32557044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758171-5664-48A9-94CD-F16214B7A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28604-7F8F-4891-A073-81549686B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2365D4-63CC-4564-9144-65C3BFFA1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D91464-5325-4453-80E7-38C145A2C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04810E-94E7-4514-96C7-16B561EA9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8946B0-F1BB-4E5C-A1B9-8CA48A29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F2EA2E-70B7-450D-8899-B96E4D81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550DF3-3730-4274-8462-E1E36E66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94DEE9-44ED-41A3-BD18-A4C454EF1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7D8264-6053-4269-BE26-710AD9E18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1EEF8F-E797-4C73-93AE-F20BD34E1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7C4187-DB0B-4678-93E7-0AEBAC2D2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D7EAD-2830-4C90-9F51-6CE16AAE3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0FFC48-E0B6-43AD-9DFB-541078513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9526CA-4FCB-4423-8011-34F341927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43075C-D662-4084-8322-3DB3E5E70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34587C-C0A7-4EF4-83F3-18B66740E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0F893F-50A3-42BC-BC8C-9DCEBABF5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0748E3-DD27-431E-B3DE-330DD839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A18157-9EFB-47D4-B8A5-4EBA8B31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4A67C0-6AA9-432B-9C5B-3AE3E95D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FB15EA-A246-43E1-9627-D15B85F6B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1269FE-86AB-4F94-A1EB-ACF078914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CA77E-766B-4537-89C0-AECC2DA33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B6295F-7954-44BA-B76E-372E7E15D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18F3C5-9130-464F-8ACE-0260681EB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2D5895-5E35-478A-86C2-FA8C94DFE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7A150D-32F6-45B6-815D-C4F6F99E0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600DCA-32EE-4DEC-A0EC-57A93B8E9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1F6764-0492-4305-8DA7-D574A6285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9971B6-BEB4-4DAC-A84C-E18C16029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582A8B-5742-4AA5-B81B-A3BC6F45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E6EA1A-02F7-49EE-A7CC-4AE8DF6F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FDB32B-87C7-4542-B8B1-219E9F6D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817BC-E6BF-4780-9851-DB322450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ABE248-2869-48A4-9BF4-EB5375231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39E900-965E-441C-B067-31FDDB3AD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17BDFF-A76D-4026-9126-58EE6D89A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4527FA-A0D2-430E-9C67-066DE2A27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188754-7EB1-4CC1-9663-CD97BED3D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9F5FDF-F098-41CE-8883-FA350238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D2E01B-D9E3-41EA-9266-70B5E5920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9814A8-7B42-4F9C-AF3A-C2E1EB234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E690BF-36E1-4BCA-85D2-0EF1DA0F1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3B1AF9-4DF8-4F01-BAE1-A993A20B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381B-5C01-4058-871A-69DDB37E1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B4947-2107-439A-B34D-23C6CFDF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62C9F4-6044-4933-8E85-B3F8AD998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A5A4DB-FB1A-48C3-8C99-0F194E86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5264A6-CF63-4EB5-B295-53F6B8329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8995F3-B8B2-4C98-8C04-FB0DB4003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88D8C7-FCC6-4F80-BBD4-C6AC4C4BE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3899C2-EFF7-4818-B8BA-E0E9E8C10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101FA2-F3F7-4A83-AEB8-99C7DB95C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05434A-18A5-4116-A370-DD8AFEA7A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3D24B4-B221-43AB-A7D3-F5F61A67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EC0B9B-F792-4D47-97DD-9C56F94D7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951F7-05DD-440B-9CAC-1261E35D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1075DC-0A3B-4C96-9432-9E5E1EBE3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727AFC-E193-4589-A0C3-A8BD5D4A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2D9788-E24C-4A85-8745-902785D0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CF9744-97BB-4DE8-9F53-4707DAE0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D9EDA6-2197-47AC-BCB6-DC883A438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338895-6CD4-41D0-982D-4A86A3475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6D858C-A34E-4023-B5B9-8FFAEA985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5CBDE8-8655-4D37-B038-036DA7BCA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BB488E-A5DC-4D93-A28C-9C2EAF4C9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1F124F-8306-4C7A-A8CB-F4D2792B6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945D0-1966-4320-9190-A7E661B5D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BA365E-508C-4ECF-BE57-3EF0813D8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8EC8DB-4272-454D-987B-6901ECFA7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52574C-A113-4EAF-93F2-3E143292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DA58D2-6AF8-4F31-BCA1-0CDDA7FB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672366-1004-46B3-BCAB-78A70BE0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6BB48D-41A0-4BE5-B172-B0301A97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60E4F4-5111-45C4-B1BE-1562541BB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DF8201-8ED9-43F2-AC7E-18B766319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01573D-D976-4AA7-A2D9-81EF044E6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E5F7B7-FB44-440A-8E79-5C0481339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6AE2A-1AA4-4A21-A83B-D7C1F86EE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9EF2CB-464D-4CEF-95A4-FA20002B8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C4A75B-3ED7-4AE3-8804-BADDC4F80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DD00A8-6F5C-4680-8F9D-E8C241FAA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245F6E-ECC2-4184-A5D1-6971745BD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AC15FF-1912-40B1-A7EF-E0299A0AC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372E8D-11B9-4F2C-A59C-BE2A3865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B1ECEB-7F53-4FF8-A65C-73A46BFE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8671C0-F590-4B24-A1E1-15931A7C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61BB5B-6554-4273-BBDA-7911EBACA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7C9ADB-79A1-4518-AACA-B610B96C1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8622F-9590-45B4-8A9C-6D846A562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6CEC6C-2A5A-4760-A53E-ABDE16472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D8898D-A1A6-4508-8E51-BAE9CC4BE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16AC4A-E123-4808-B7A2-803CC8ACD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7E2920-F747-4D9B-B77E-27053E035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E410B1-786F-4CBA-966B-E0177E366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A8B063-F4E2-4D50-8322-91A379200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2D46D6-A958-412C-A44D-F5E81557A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DEDFE1-434A-4233-8E75-D3F360E0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70DA51-6216-4102-AF87-C6AC4914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6D4121-1957-4DB4-9170-A00651FF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F050F-5316-49DA-BC28-23E882DFA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A07147-9825-44FE-B2A6-AF7B1F5EE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6FD7EE-6513-4C5A-B311-288761B7D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D3152D-D7B0-4D39-84CF-A8B2E9877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681A8-F240-4080-83AF-4DEB88112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8F7F5-12A4-408D-9105-C8907C848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F1497-685D-4AF1-9E91-3E3A7CE4C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2D9E2-4496-4E11-98D5-AC3B3769D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D029-1E90-4495-8AA1-A58DF9FE9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5F7BA-9014-434D-B534-7F0BAC19A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7B6A2-1563-4C0C-B8C9-95B27AA7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52CBE-7CDE-4B6F-B850-375C411D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E3DCF-8FA8-4051-A5C7-D796BB28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9477E-F9B4-4FE6-B4DB-B997931D4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36BB5-1D99-4471-A0A3-926C26166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0EFC1-CFEE-4EAC-9109-09F8A1D48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A3DF8-E4FE-4DD5-8F0E-DFD89BD46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58781-EEC3-4F9F-B579-D06E3813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BDB56-4320-46B4-9009-640E6ADC9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7CA7-371B-43E5-870C-110CE0DFA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0B1B9-8DD3-44AE-9DB4-D7A044FEC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C5F8F-8ACD-49A0-A5AD-0866B54E9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768CB-F728-4575-B7C3-4FED7E432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7C99D-E231-4D17-858E-D64788B3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00E88-5504-4EF0-8993-1B38BA38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1DA46-63D3-4535-9FA4-A1C31B19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48DD9-278D-491D-A9BA-4FCE0CCD9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971FB-C4D1-47FB-B0AC-D4B5D8FB8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64DA2-FB56-4818-8D4C-199EBBFF5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0EA8F-63F5-49AB-B709-86EF36F5E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5D7F-DDD0-4739-8166-F6BEDDFCA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BAF9E-19F4-482F-888D-DD1EF73DE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9C9DD-197A-44BC-B25C-7D6F021D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73C75-E1E6-44DB-9706-8F9458156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66440-9B7A-4124-8AD9-71D70C4CB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AD2DF-2171-4D63-8BED-3882DBACE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A33D9-0AA0-4D44-AE84-11E959E6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AC769-0E12-4A56-8053-BD2CDB0D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2A4B2-4D4B-4FA3-B5F4-6A2CE223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87AA0-A8B9-4774-8456-EDDD8E19D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908F9-096E-4288-88F2-87A0C43F7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E104-1E4D-4706-B146-02AB7255C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E63DC-9359-4D9C-AD63-F291EE400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E0238-76AE-4199-BC5A-C71904D80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4F086-C92B-4733-9040-39E72F213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9830D-B6A6-4A38-B1A9-7F0C8C2B5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7A836-FD84-465B-A141-D59D0815F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EFAC5-EAEF-4783-9F20-3CCBC048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DF7E2-2115-4220-8A71-EB6F48927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3CD13-34DC-4748-B698-64FB6388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1EE0F-4A1D-44F2-94D2-F1CE55CB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30685-A5BD-4221-B40D-66E171DF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B10A-1F88-4AFB-9063-42451D6D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C2B4C-B18D-4F9A-9169-BB1DCD931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CAF9E-C2FA-4C95-AE0D-6C617B387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82932-A0EE-47B6-8751-C110E47DF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CC900-909E-4D45-AADF-AE0820A1D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38EF44-BF5C-4670-80DB-F8FADDED4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0662E-C094-494F-99EA-FA6296CBC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4607DA-AE49-4A07-A7EA-73CAAD555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B2DB2-63A7-46FA-B4C3-FE1EA3F38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7FA754-3851-4B8D-A2B1-985D806F7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952FE-5069-4B2C-ADAF-8E7691CE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EC62-DD1F-40B6-9A8C-703B4722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B180C-D1FD-4C81-B9C0-8794AA455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AC4D6-BAD5-437A-AD5D-2C3BFBCC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B944B-EFCF-47E7-BB6D-48F7F1715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AEFC4-A41C-4766-8D51-0F05351D2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62A8E-9FD5-462D-8EC2-F2ED270F6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0E532D-BBC6-4E48-AB3A-921F2EBE7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9F955B-57EB-4C6C-862C-D2073348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E31310-BE62-4B1C-9A19-F484D1659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C5EEA7-7758-44C3-B092-8645759CC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E13778-84D9-4647-952A-DC20EEEFE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AB7D-A653-4C3F-8135-4D1E0062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4A43F9-1376-4442-8C14-DB1909F09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3860B1-A7BF-4ABC-BF65-834CB906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19B026-D3E9-4D65-ABE5-6C5E7CA5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64B97C-97B2-4FAD-BBB3-98C17D1C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D6349F-830C-4625-92F7-37B0DCE6C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C7DE57-2ED3-445C-A6AB-130CC730A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30DF18-1A71-423F-90DE-786A58E8B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29E13C-0F0F-4361-986C-F155EE887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A52776-4E18-4A5C-998F-18C02BEE4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CC3073-BC89-4EB6-B010-6AE2A5077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AEE66-C195-4E64-BB6A-2651659DACA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367B-81AD-4DD4-A679-25146D75A9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D9708-8FBC-45C7-A4BF-9AD4ED27B0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4B0E7-F6CE-4E1B-A60A-947F8A1D96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2E6BE-B5DA-4675-B69E-3C1B4ACEB9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D0638-FBB3-41E4-B63D-2CCC37717B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8E0F2-0D17-46EA-A23D-8DF947532D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EE3B5-4CEE-4CB5-AB5D-1C20C437AF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1E39A-0A33-47EE-966D-C3C9F2DF01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09FC9-0CA6-4643-87D7-15DBCA897A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9DF79-67AD-4D12-AE84-49AC4B18DD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0B2D8-B002-4FCE-8763-A01AD4222D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75F58-5274-4E06-AA7E-391572640C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01313-1057-43AA-A09F-9D5895844E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92597-51ED-4888-98C3-878D511C65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ED5A2-7961-466B-8906-85139E88497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06E3E-816B-4F7B-8C73-EBAECD130D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FB238-FC22-47A7-91D6-6254F5F7B7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477B6-0CA4-4BCB-9B2D-5D4F9DE356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8D60E-3028-4970-9704-26AF7AC915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91B69-4E23-4F83-B87B-389E8221BC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C7570-E0A5-4D4B-B397-D3FEEB5525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03378-7129-489C-9B24-31372C4994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669C5-A76C-42B0-9A0E-2B4BB96FB7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85467-C8ED-4AB4-BA69-44625459AA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92C70-9EE9-4E7E-AD7F-26AC8EB546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0EA00-F29F-497A-95D1-62DDAC34AF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2272F-6F4A-4D14-9A1B-FCA7DD55670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6B13-FAF0-4903-81EA-C0FEB872DD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1AC64-E882-4FDF-BE8F-389EBE5B17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28A55-F6F1-4E96-9293-27BEE97F8D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B4F85-F9C2-4422-9403-3F5641B249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398F0-A8B5-4CF2-9DAA-51E0D85C00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67005-4F36-4B21-87A7-8C0AFDC7A8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C0A6E-ED21-471E-B64D-D0A53FB3C2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F975A-C27A-4E42-8268-BF868873A9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F6C9-7935-4817-8609-376327B627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15EDB-92FB-478C-8F8F-E56459F4A0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CB4FC-3C37-461D-BD2C-8731037AB4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2C87-F66C-4312-A050-9290B066D2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333360" y="1916280"/>
            <a:ext cx="8477280" cy="81900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1967040" y="3281400"/>
            <a:ext cx="520992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8" name="图片 69633" descr=""/>
          <p:cNvPicPr/>
          <p:nvPr/>
        </p:nvPicPr>
        <p:blipFill>
          <a:blip r:embed="rId1"/>
          <a:stretch/>
        </p:blipFill>
        <p:spPr>
          <a:xfrm>
            <a:off x="128520" y="1195560"/>
            <a:ext cx="8886960" cy="44668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2"/>
          <a:stretch/>
        </p:blipFill>
        <p:spPr>
          <a:xfrm>
            <a:off x="3564000" y="494172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3"/>
          <a:stretch/>
        </p:blipFill>
        <p:spPr>
          <a:xfrm>
            <a:off x="4716360" y="4005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4"/>
          <a:stretch/>
        </p:blipFill>
        <p:spPr>
          <a:xfrm>
            <a:off x="5724360" y="48690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5"/>
          <a:stretch/>
        </p:blipFill>
        <p:spPr>
          <a:xfrm>
            <a:off x="6732720" y="3141720"/>
            <a:ext cx="863640" cy="44748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6"/>
          <a:stretch/>
        </p:blipFill>
        <p:spPr>
          <a:xfrm>
            <a:off x="7885080" y="4062240"/>
            <a:ext cx="863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7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4" name="图片 68609" descr=""/>
          <p:cNvPicPr/>
          <p:nvPr/>
        </p:nvPicPr>
        <p:blipFill>
          <a:blip r:embed="rId1"/>
          <a:stretch/>
        </p:blipFill>
        <p:spPr>
          <a:xfrm>
            <a:off x="162000" y="847800"/>
            <a:ext cx="8820000" cy="553392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2"/>
          <a:stretch/>
        </p:blipFill>
        <p:spPr>
          <a:xfrm>
            <a:off x="826920" y="4437000"/>
            <a:ext cx="2665440" cy="44784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3"/>
          <a:stretch/>
        </p:blipFill>
        <p:spPr>
          <a:xfrm>
            <a:off x="3995640" y="4437000"/>
            <a:ext cx="3240360" cy="44784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4"/>
          <a:stretch/>
        </p:blipFill>
        <p:spPr>
          <a:xfrm>
            <a:off x="900000" y="5186520"/>
            <a:ext cx="3240360" cy="44748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5"/>
          <a:stretch/>
        </p:blipFill>
        <p:spPr>
          <a:xfrm>
            <a:off x="4716360" y="5229360"/>
            <a:ext cx="3240360" cy="44748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6"/>
          <a:stretch/>
        </p:blipFill>
        <p:spPr>
          <a:xfrm>
            <a:off x="871560" y="5950080"/>
            <a:ext cx="3240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4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4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9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4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60428" descr=""/>
          <p:cNvPicPr/>
          <p:nvPr/>
        </p:nvPicPr>
        <p:blipFill>
          <a:blip r:embed="rId1"/>
          <a:stretch/>
        </p:blipFill>
        <p:spPr>
          <a:xfrm>
            <a:off x="466560" y="919080"/>
            <a:ext cx="8210880" cy="50198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3708360" y="36450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8101080" y="36734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4"/>
          <a:stretch/>
        </p:blipFill>
        <p:spPr>
          <a:xfrm>
            <a:off x="3664080" y="45086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5"/>
          <a:stretch/>
        </p:blipFill>
        <p:spPr>
          <a:xfrm>
            <a:off x="7740720" y="45086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6"/>
          <a:stretch/>
        </p:blipFill>
        <p:spPr>
          <a:xfrm>
            <a:off x="3276720" y="537372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7"/>
          <a:stretch/>
        </p:blipFill>
        <p:spPr>
          <a:xfrm>
            <a:off x="7667640" y="532908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图片 59410" descr=""/>
          <p:cNvPicPr/>
          <p:nvPr/>
        </p:nvPicPr>
        <p:blipFill>
          <a:blip r:embed="rId1"/>
          <a:stretch/>
        </p:blipFill>
        <p:spPr>
          <a:xfrm>
            <a:off x="357120" y="1262160"/>
            <a:ext cx="8429760" cy="433368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2"/>
          <a:stretch/>
        </p:blipFill>
        <p:spPr>
          <a:xfrm>
            <a:off x="4154400" y="2637000"/>
            <a:ext cx="360360" cy="4474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3"/>
          <a:stretch/>
        </p:blipFill>
        <p:spPr>
          <a:xfrm>
            <a:off x="2556000" y="3716280"/>
            <a:ext cx="360360" cy="4478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4"/>
          <a:stretch/>
        </p:blipFill>
        <p:spPr>
          <a:xfrm>
            <a:off x="1403280" y="4753080"/>
            <a:ext cx="936720" cy="44748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5"/>
          <a:stretch/>
        </p:blipFill>
        <p:spPr>
          <a:xfrm>
            <a:off x="8058240" y="2622600"/>
            <a:ext cx="488880" cy="44748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6"/>
          <a:stretch/>
        </p:blipFill>
        <p:spPr>
          <a:xfrm>
            <a:off x="6445080" y="3701880"/>
            <a:ext cx="360360" cy="4478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7"/>
          <a:stretch/>
        </p:blipFill>
        <p:spPr>
          <a:xfrm>
            <a:off x="5292720" y="4738680"/>
            <a:ext cx="936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7" name="图片 58373" descr=""/>
          <p:cNvPicPr/>
          <p:nvPr/>
        </p:nvPicPr>
        <p:blipFill>
          <a:blip r:embed="rId1"/>
          <a:stretch/>
        </p:blipFill>
        <p:spPr>
          <a:xfrm>
            <a:off x="447840" y="1852560"/>
            <a:ext cx="8248320" cy="315288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2"/>
          <a:stretch/>
        </p:blipFill>
        <p:spPr>
          <a:xfrm>
            <a:off x="2079720" y="31845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3"/>
          <a:stretch/>
        </p:blipFill>
        <p:spPr>
          <a:xfrm>
            <a:off x="971640" y="4249800"/>
            <a:ext cx="1224000" cy="44748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4"/>
          <a:stretch/>
        </p:blipFill>
        <p:spPr>
          <a:xfrm>
            <a:off x="2641680" y="4264200"/>
            <a:ext cx="1224000" cy="44748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5"/>
          <a:stretch/>
        </p:blipFill>
        <p:spPr>
          <a:xfrm>
            <a:off x="3708360" y="213372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6"/>
          <a:stretch/>
        </p:blipFill>
        <p:spPr>
          <a:xfrm>
            <a:off x="6097680" y="31989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7"/>
          <a:stretch/>
        </p:blipFill>
        <p:spPr>
          <a:xfrm>
            <a:off x="4989600" y="4264200"/>
            <a:ext cx="1224000" cy="44748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8"/>
          <a:stretch/>
        </p:blipFill>
        <p:spPr>
          <a:xfrm>
            <a:off x="6659640" y="4278240"/>
            <a:ext cx="1224000" cy="4478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9"/>
          <a:stretch/>
        </p:blipFill>
        <p:spPr>
          <a:xfrm>
            <a:off x="7726320" y="21477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10"/>
          <a:stretch/>
        </p:blipFill>
        <p:spPr>
          <a:xfrm>
            <a:off x="7740720" y="321300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图片 57352" descr=""/>
          <p:cNvPicPr/>
          <p:nvPr/>
        </p:nvPicPr>
        <p:blipFill>
          <a:blip r:embed="rId1"/>
          <a:stretch/>
        </p:blipFill>
        <p:spPr>
          <a:xfrm>
            <a:off x="277920" y="189000"/>
            <a:ext cx="8686800" cy="624816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2"/>
          <a:stretch/>
        </p:blipFill>
        <p:spPr>
          <a:xfrm>
            <a:off x="5435640" y="170028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3"/>
          <a:stretch/>
        </p:blipFill>
        <p:spPr>
          <a:xfrm>
            <a:off x="5608800" y="3068640"/>
            <a:ext cx="618840" cy="44784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4"/>
          <a:stretch/>
        </p:blipFill>
        <p:spPr>
          <a:xfrm>
            <a:off x="5148360" y="4394160"/>
            <a:ext cx="619200" cy="4478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5"/>
          <a:stretch/>
        </p:blipFill>
        <p:spPr>
          <a:xfrm>
            <a:off x="5148360" y="5748480"/>
            <a:ext cx="6192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图片 56324" descr=""/>
          <p:cNvPicPr/>
          <p:nvPr/>
        </p:nvPicPr>
        <p:blipFill>
          <a:blip r:embed="rId1"/>
          <a:stretch/>
        </p:blipFill>
        <p:spPr>
          <a:xfrm>
            <a:off x="452520" y="871560"/>
            <a:ext cx="8238960" cy="511488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2"/>
          <a:stretch/>
        </p:blipFill>
        <p:spPr>
          <a:xfrm>
            <a:off x="2627280" y="5229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3"/>
          <a:stretch/>
        </p:blipFill>
        <p:spPr>
          <a:xfrm>
            <a:off x="3851280" y="2133720"/>
            <a:ext cx="403380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图片 55300" descr=""/>
          <p:cNvPicPr/>
          <p:nvPr/>
        </p:nvPicPr>
        <p:blipFill>
          <a:blip r:embed="rId1"/>
          <a:stretch/>
        </p:blipFill>
        <p:spPr>
          <a:xfrm>
            <a:off x="909720" y="1838160"/>
            <a:ext cx="7324560" cy="318168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2"/>
          <a:stretch/>
        </p:blipFill>
        <p:spPr>
          <a:xfrm>
            <a:off x="2484360" y="42926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3"/>
          <a:stretch/>
        </p:blipFill>
        <p:spPr>
          <a:xfrm>
            <a:off x="4067280" y="1989000"/>
            <a:ext cx="3960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图片 54276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8839440" cy="426744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2"/>
          <a:stretch/>
        </p:blipFill>
        <p:spPr>
          <a:xfrm>
            <a:off x="900000" y="3068640"/>
            <a:ext cx="3527640" cy="259236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3"/>
          <a:stretch/>
        </p:blipFill>
        <p:spPr>
          <a:xfrm>
            <a:off x="2916360" y="2247840"/>
            <a:ext cx="1295280" cy="44784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4"/>
          <a:stretch/>
        </p:blipFill>
        <p:spPr>
          <a:xfrm>
            <a:off x="4500720" y="3054240"/>
            <a:ext cx="4248000" cy="259236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5"/>
          <a:stretch/>
        </p:blipFill>
        <p:spPr>
          <a:xfrm>
            <a:off x="6948360" y="2247840"/>
            <a:ext cx="1944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图片 52231" descr=""/>
          <p:cNvPicPr/>
          <p:nvPr/>
        </p:nvPicPr>
        <p:blipFill>
          <a:blip r:embed="rId1"/>
          <a:stretch/>
        </p:blipFill>
        <p:spPr>
          <a:xfrm>
            <a:off x="519120" y="1328760"/>
            <a:ext cx="8105760" cy="420048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2"/>
          <a:stretch/>
        </p:blipFill>
        <p:spPr>
          <a:xfrm>
            <a:off x="684360" y="2349360"/>
            <a:ext cx="3382920" cy="316728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3"/>
          <a:stretch/>
        </p:blipFill>
        <p:spPr>
          <a:xfrm>
            <a:off x="2685960" y="1557360"/>
            <a:ext cx="949320" cy="44748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4"/>
          <a:stretch/>
        </p:blipFill>
        <p:spPr>
          <a:xfrm>
            <a:off x="4211640" y="2305080"/>
            <a:ext cx="4392720" cy="316692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5"/>
          <a:stretch/>
        </p:blipFill>
        <p:spPr>
          <a:xfrm>
            <a:off x="6429240" y="1512720"/>
            <a:ext cx="21751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9:01:12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